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E3A-55D0-4676-836F-0782882A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861F-7E17-4D03-97F0-21FC7E26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081-4FD8-45A5-BF32-972AED01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BE5-951A-4302-8FDE-17D6E60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5FD-1D37-4AA1-926B-948E5BF7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4B6-05D3-494D-98BA-DFA78916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A28-5909-4E3A-AFD9-9DA12B05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604-3D96-4D3C-8095-747F7E3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4FF-EA18-4C10-A24A-DF0B0489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0DD-B01A-437B-A8D8-57F97B6C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688-C6F9-446B-B8AE-C608B87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486-4559-459E-8040-09B220F9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9F0-5EF7-4CEA-BE3A-77F1DCE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F4D-18CF-47E4-BCF8-4D69A21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BF1-A496-437A-AAE3-899B77B3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4:17Z</dcterms:modified>
  <cp:revision>119</cp:revision>
  <dc:subject/>
  <dc:title>Museum of World Stuff</dc:title>
</cp:coreProperties>
</file>